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10D-5F02-4E1A-BA3E-0BD085DF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781-1C12-4D4A-A3E9-DEF5D7E5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AA9A09-6CC7-4378-B968-9E079473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8408E-8F3E-482B-821B-BE90312A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76523-9D9E-48DC-BB5F-FDA21808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95CC9-C601-4D03-A76C-C4F3E3E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87AE3-A5D2-4FF2-A24A-18493194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F2328-A063-493B-8B2A-EFEC69C3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F12CE-0F90-4D64-9430-33ADB3F8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75F5B-F3DE-4AB2-84E0-494CD436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F070A-D8A6-44D9-91BB-CEF1F497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5AD127-083F-44BA-88DC-155D3CF1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958-173C-49BB-92EC-2B965CBE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1296D-C434-4F4F-A17C-165D4E93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A8417-0BFA-4BC0-BEFB-4ABFD420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9E04B-0BE6-4256-B51B-621F2E04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48F44-F668-4282-AA6C-688257AB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9BF46-ED09-47B9-8349-EC9A68D5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99F2F-8B49-4DFE-8E7A-FC4826FC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5433E-1587-4860-ADB6-55F889C0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FFA46-29F4-4A1B-ADD9-0641A6C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391FD-AA97-40B1-BCF4-B714CCC7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D0A5C-18D7-4841-9F40-A0EDFF61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B8A-A29A-403F-868D-4C1DC20C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336BB-BFC9-4AB0-BEB0-AEFCCF79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9A257-D20C-4939-8FD3-591F21E7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B40BC-C164-4B35-A5B7-A6A39D41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E5926-5120-4611-8809-EA9682EA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66179-8E91-4A42-A60A-1C092618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FF3DD-66C8-4161-9B36-CB28A930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C88A0-95C8-486F-8C11-874C2189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1589D-2339-4FE4-B50A-6848218F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1A32D-E717-4DC1-8706-0512324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58589-BE7D-44E2-AFE7-E96A12D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AAB3-8D0C-40ED-B33C-155E4A1E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EC594-4FE2-4958-863C-1143E147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68522-2637-4E79-81EA-9B131F08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90062-9C72-41BA-99BA-064A1B5A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646B0-9FF8-4167-AD66-BFB45940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395B0-55D3-4273-AB70-664B0003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2BF4F-BF7B-4886-881F-BC3FE7F4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3D11C-653E-4181-844E-E1E3E8F4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D8A72-4742-48B2-94DC-CFC18F8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85E41-35C0-4301-9FAA-A8DE9EC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6312A-BFBD-4A48-BDF1-79C96C2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B501-8BE9-4DA9-BCCC-A933D409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EA01E-4029-4606-8A85-0AB08123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6E6D3-5A90-449A-8700-8413189C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449C7-D69F-49D5-BFC9-8AA069D3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B190D-0FA3-403B-B7AF-E6FD3644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5CF53-D8AA-4615-A912-56CCB018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D4CE-98F3-443F-9CB7-DDBD82DE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587-CAD1-48C2-80AF-2B96F570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713E-CEEA-4FB2-8D70-1A20A558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98EB-8214-4717-BAD7-E5D0CCFA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CC3-0776-4C88-9746-DAE53D6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BF2-B404-4A36-92A8-12090A9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2321-ED36-477A-9E94-C51D51F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CA73-DF2A-41A2-8EFD-768E7C9E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6308-F94B-4989-81BC-D771ABFD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6F8F-8656-4714-9789-F2073B47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54AC-45DC-435C-90CE-D230A977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2B3E-8A27-4CBE-866E-56317F22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2D876-9675-45FA-931F-C5BAB9C1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FC69-2D30-4BCA-96D5-76C7948F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87EB-568E-4DF4-80EC-E8A96BEC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45FF-2883-4C28-B6B4-D00B6730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A9F-632B-4A97-8340-F72032B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0E6B-633F-4A5B-984E-A6D5FB80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7093-0FDA-4F3C-A3CF-75E197A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43F6-BAE5-4D35-9672-BF7A8413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1E0E-375C-4891-BEC2-EAA05D46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9F56-5C89-4DD4-8392-FA80279E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5ADB-B066-4A15-9B96-F5A5D6A6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4559-DA3D-4AAE-8F05-ABFFA3BD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E4E7B-1A8C-4875-93B8-73B2EED0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10803-E736-4B22-AF76-5A6CD2A0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8788E-92EE-464D-8BE6-32837C9C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702-D3C5-4C98-A221-B33D6CEB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1BE5-A446-4218-B62D-5CEABB69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7976-2ABD-4109-B466-9B8AADEE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4DD5D-1C02-4EFA-B0D4-C5846F88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F762A-3833-4B40-A40C-9A83AB41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39FF-7284-4122-A5C4-E100C54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5AF4-C900-4917-B32F-56E3FC7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9C1A-4DB2-42B8-9077-218C6C6E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7C24-D316-4FB5-B8C5-5EEA0C8A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1948F-5342-44DA-A18F-3F254D57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B7B1-1FDA-427F-A3AA-86773610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88A-BA94-419B-8D41-6915EA36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3B214-A03C-4ED1-937C-25D980EB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C017-9CF7-43AB-A13A-4C7B0DD5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D3E3C-428A-40EF-A728-7DBAC573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5C046-6F8F-4B3F-B249-7DE11B3C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4C55C-8A23-429A-88F8-65F06F4E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430B-D641-496F-83E8-A37F31B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D8ABC-1BD9-4F6D-AB8D-B2A0786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D22B-A456-4DFA-A6EC-A44FEC86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2CE5-241F-4CCD-AC34-9C26250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C6088-0E86-403C-92C8-0CC63B17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FD4-77EF-46CE-A1CE-FF2E5BB6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F0F0A-B8FA-4AC8-A596-EE568B1C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5BC9-AFEF-4374-BD08-35765010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2A5A9-4443-4C72-BE53-238ABA9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D3116-ECDF-47F0-8814-C0CEFB8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9B902-1862-4A60-AB8D-C2CD4DF6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647D7-55D8-4962-847A-51D09126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F5DF-9AAF-4EB2-9351-F4ABEBF8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D04AD-D259-4CF6-829F-5399FE6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552B-F6A4-4F0A-8397-55A25D7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AD1D-23B9-4563-83C4-EFED84DD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3C6-2CE5-4B53-BB78-2CDAA0FE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3B01E-1F6A-40C2-8679-C8E823CF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73FDE-3D0E-414E-A728-C0D5B126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57DFB-CF78-4F22-BD88-FB213178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DB418-9594-4425-B1BD-A130997F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9F7C-C2B2-49EA-BBC4-DC4ED62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655E9-AE4B-4F62-8C76-AF61840E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1B8FF-A7E7-49E9-8CE3-E7D30B56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28DE-A396-4EEA-85AB-A2B3DD8F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E829-ED38-49BA-8717-70A86040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9064-0929-4BDE-AF43-606D616B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EE2-2B9B-4CA1-B7C2-070ADA2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44E35-C59B-46A7-887F-A93BC747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7DBBC-E96E-48CA-B9A9-9BA07AA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395E5-3EA1-442E-B320-1E13DBBA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6815-A646-41A1-A5A3-5F1ED4FD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FC575-701C-42CC-B1D3-32907A80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CB7AE-88AB-4276-99E9-7C973057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6E50E-4D59-4D24-B517-73A48D96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4171-37CD-4F40-B91F-B601E982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452C1-5EF7-4778-A079-1A0A402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8923D-8BAF-493B-A259-DBF90C58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E28-8DED-47B2-B427-26339D7F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ED4E-7C38-4832-BC00-FB02A46E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0AAD7-0B56-4490-9DC5-0D79CEB0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7FD12-C7CA-4C62-8339-7E9FBAD7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3841B-98F8-4920-ABC3-26E26BE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FADC4-035C-4076-8805-90A015C0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7EBBF-204B-467F-B005-89566FC8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CDFFC-33EB-463B-B8C4-90D43959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1DB84-AE6F-4A0E-9572-97239859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84D95-1873-4CFA-BF3E-5AFA4704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1BB7A-9AD3-49DE-B831-FE7E3C4D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EBD2-19EC-4898-B8AF-B21CFC6D9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4E8F-7F2F-4022-BB20-E4B108D79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817A-E56D-4435-969C-4010BD4097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1B69-CFF2-4B19-A454-002FD3BB90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9EA-2B03-41BD-ADE7-2A5831034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BA8-1CC0-4C9F-BD75-F1A29DE4B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5C1E-C246-4FC7-B7E9-1263992078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EC24-EFCD-4BF0-AF31-98B46A9E3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91FE-A8C2-4040-B573-17C3A21BB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F58C-5298-44DA-83A7-BB4D2871E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AF75-6B29-438A-BE18-71FACFDDD0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0B1-F208-4141-8E04-212F25CE8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R. SOLOMON MENGIST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DISU ABER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OLOMON ABEY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ANTAHUN DEREJ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FEAST Beef group presentation</a:t>
            </a:r>
            <a:br>
              <a:rPr sz="4200"/>
            </a:b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3173400" y="43434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A845-E42D-480B-BBD2-69EB1E887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249120" y="4305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The summary of farmers’ view, identified problems &amp; solu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2280" y="1066680"/>
          <a:ext cx="8610840" cy="4480200"/>
        </p:xfrm>
        <a:graphic>
          <a:graphicData uri="http://schemas.openxmlformats.org/drawingml/2006/table">
            <a:tbl>
              <a:tblPr/>
              <a:tblGrid>
                <a:gridCol w="1641600"/>
                <a:gridCol w="6969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n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vailability of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duce by their own, procure the deficit from other 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terinary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sion of the service by the public &amp; privet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ck of improved animal br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duce from own he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ortage of AI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sion of the service by the public &amp; privet  techni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ack of technical knowled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lu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sion of the capacity building by extension agents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B604-62F8-4E0C-8552-DC710D7D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380880" y="456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mplete pair-wise comparisons of these proble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304920" y="990720"/>
          <a:ext cx="8153280" cy="4681440"/>
        </p:xfrm>
        <a:graphic>
          <a:graphicData uri="http://schemas.openxmlformats.org/drawingml/2006/table">
            <a:tbl>
              <a:tblPr/>
              <a:tblGrid>
                <a:gridCol w="3208320"/>
                <a:gridCol w="494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hich problem is more Important to farmer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 v Proble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 v Proble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 v 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 v 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 v Proble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 v 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 v 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3 v 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3 v 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4 v 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E5F6-7947-44C7-895C-D7D7C489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53960" y="914400"/>
          <a:ext cx="8153640" cy="2378160"/>
        </p:xfrm>
        <a:graphic>
          <a:graphicData uri="http://schemas.openxmlformats.org/drawingml/2006/table">
            <a:tbl>
              <a:tblPr/>
              <a:tblGrid>
                <a:gridCol w="2057400"/>
                <a:gridCol w="1222560"/>
                <a:gridCol w="1295280"/>
                <a:gridCol w="1219320"/>
                <a:gridCol w="1216080"/>
                <a:gridCol w="1143000"/>
              </a:tblGrid>
              <a:tr h="761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blem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umber of times the problem was considered the most 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Rectangle 81"/>
          <p:cNvSpPr/>
          <p:nvPr/>
        </p:nvSpPr>
        <p:spPr>
          <a:xfrm>
            <a:off x="457200" y="37324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the observation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is the most critical problem affecting livestock production as farmers notified it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troductio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me of site/villag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din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me of district: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a’a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ntry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thiop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umber of participants: 5 (males=4, females=1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te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rch 14, 201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rt time: 10:50 am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nishing time: 1:45 p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otal time taken = 2:55h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scription of the farming of sys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verage farm size = 2ha or 8 kert; [1ha= 4 kert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ypical (or average) household size? 5 pers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ainfall pattern vary over a years 0-5, where 5 = heavy rainfall levels and 0=no rainfall)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Heavy RF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= July and Augus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Medium RF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= June and Septem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mall RF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= April, May and Octo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o RF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= November through March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are two cropping seas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Kiremet: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June - July, August &amp; Septem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Bega: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October - Ma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of the area is suitable for irrig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out  65% of the HH are using irrig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E51-C4B4-4A6D-BD3D-454EBB38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Chart 2" descr=""/>
          <p:cNvPicPr/>
          <p:nvPr/>
        </p:nvPicPr>
        <p:blipFill>
          <a:blip r:embed="rId1"/>
          <a:stretch/>
        </p:blipFill>
        <p:spPr>
          <a:xfrm>
            <a:off x="378000" y="755640"/>
            <a:ext cx="83880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vailability of labou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is shortage of labour due to seasonality of the work loa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n is it most required? During October to January  which is the main cropping sea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ce of (daily-paid) labour : between 45 to 50 birr/ d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bour is highly demanded &amp; very expensive during the cropping sea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me Agricultural inputs: Credit &amp; land are not readily avail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ther Agricultural inputs : urea, plastic sheeting,  irrigation equipment's are not readily available in the local market so farmers are forced to search for them at big tow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3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18ED-4571-4234-9D21-C8CBCE892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609480" y="379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ypes of Livestock raised in the are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52280" y="1025640"/>
          <a:ext cx="8610840" cy="5638680"/>
        </p:xfrm>
        <a:graphic>
          <a:graphicData uri="http://schemas.openxmlformats.org/drawingml/2006/table">
            <a:tbl>
              <a:tblPr/>
              <a:tblGrid>
                <a:gridCol w="1978200"/>
                <a:gridCol w="3584520"/>
                <a:gridCol w="1525680"/>
                <a:gridCol w="1522440"/>
              </a:tblGrid>
              <a:tr h="106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vestock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 of H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at 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speci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umber 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imals per H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cal Dairy c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 calf, milk, man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roved dairy c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lk for sale, calf, manur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raught c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raught, threshing, transport 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ttening cat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 fiche more money for oxen replac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e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 sale,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 sale,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ultry – 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 sale, for egg &amp;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ultry – com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 sale, for egg &amp; 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o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 &amp; saddle 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nke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ck agricultural goods, fetch water, thresh cr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26B5-71BC-4D63-9E21-C6C1B8663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Chart 2" descr=""/>
          <p:cNvPicPr/>
          <p:nvPr/>
        </p:nvPicPr>
        <p:blipFill>
          <a:blip r:embed="rId1"/>
          <a:stretch/>
        </p:blipFill>
        <p:spPr>
          <a:xfrm>
            <a:off x="225360" y="987480"/>
            <a:ext cx="8540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nagement of livestoc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335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using – separate housing, rarely in coral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eeding of cattle (stall fed, tethered, open grazing) – open grazing dominant for local &amp; stall feeding for cross breed lactating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eed processing (chopping, urea treatment, mixing etc.)- Combination of all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e veterinary services are there but the service is not adequate in most of the cases it is difficult to get drugs; the prophylactic method is not applicable. More over, the cost of treating animals is unaffordable by farmer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ith regard to methods of livestock reproduction: AI &amp; natural mating is being practiced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owever, the availability of AI – service is very problematic; also the rate of repeat services – 2 to 3 times per conception. Farmers are resort to cross bred bull service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3610-E65B-4DF0-A934-EA659582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Chart 2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6198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20:23:21Z</dcterms:created>
  <dc:creator>Lukuyu, Ben (ILRI)</dc:creator>
  <dc:description/>
  <dc:language>en-US</dc:language>
  <cp:lastModifiedBy>PBallantyne</cp:lastModifiedBy>
  <dcterms:modified xsi:type="dcterms:W3CDTF">2012-03-21T10:37:15Z</dcterms:modified>
  <cp:revision>2</cp:revision>
  <dc:subject/>
  <dc:title>FEAST Presentation</dc:title>
</cp:coreProperties>
</file>